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14.pct" ContentType="image/x-pict"/>
  <Override PartName="/ppt/media/image3.png" ContentType="image/png"/>
  <Override PartName="/ppt/media/image4.jpeg" ContentType="image/jpeg"/>
  <Override PartName="/ppt/media/image2.png" ContentType="image/png"/>
  <Override PartName="/ppt/media/image5.pct" ContentType="image/x-pict"/>
  <Override PartName="/ppt/media/image8.png" ContentType="image/png"/>
  <Override PartName="/ppt/media/image13.png" ContentType="image/png"/>
  <Override PartName="/ppt/media/image17.pct" ContentType="image/x-pict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40F-CA00-4813-806E-D7662BFF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BF7D-03BD-443F-AE6C-AAF6DC08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93A4-DA8B-4959-B4DA-8752EA03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4FDC-F9D5-499A-868C-B42B6AE7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D072-F730-40AA-A343-F2B7871E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727F-1910-4239-BE75-E05CC412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09F4-4EBF-4AD4-8D92-9DD9765A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5E03-4E32-4E4D-A8BB-B04DB5F7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845B-9A0A-454A-A9C7-D2AA2252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5B66-49A1-4A08-95FA-238E0622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A227-999E-47F9-AC4B-A24DA274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6671-8949-4D6A-B223-D5CFEFF0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8F52-0AB8-456F-BD31-976AE13C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C991-8190-426A-B5D5-DC02DC81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B805-E40B-4196-99AD-0D328FDD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7FD2-4D2F-42EE-BC4C-D071B2FE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8018-2D3C-4108-9EE7-543A41E0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2A34E-FEF9-42E9-922F-A8408A93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B357C-F6AA-49E1-B83D-92A7B298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06967-59B3-4A28-B84F-F176421F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9AB87-FAEE-4CA7-8BC3-E1D9E844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406C4-D8BE-4B40-83AD-1774198F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D16D-E1E7-45DB-A0B4-192E9678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63B97-F5EE-4F43-96EC-BB992EE3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E91F7-9481-4DCB-B802-D8C533D1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360AA-ACE1-45BB-8795-D64C7CD7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6F940-2E9A-4247-955E-9AF0567F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88836-4CF4-461A-98DC-7F29F14C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2B5E6-10C4-4192-BA1C-A45C0EEC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06B1A-E54D-4429-8C2F-6EB08586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6520-B8CE-48F6-8A39-8DB5DAC9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7585-889D-4CB9-B9BF-6B363C2E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5DC-B350-469B-84BF-B252D742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19BA-F249-46B7-A0E3-B6483B6E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484C-BD33-417D-B4F2-825717CE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0681-11E3-4DD2-9650-058DD802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4788-6677-41D0-8570-5CAC953C5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720" y="-4680"/>
            <a:ext cx="1186200" cy="7619400"/>
            <a:chOff x="-720" y="-4680"/>
            <a:chExt cx="1186200" cy="7619400"/>
          </a:xfrm>
        </p:grpSpPr>
        <p:grpSp>
          <p:nvGrpSpPr>
            <p:cNvPr id="42" name=""/>
            <p:cNvGrpSpPr/>
            <p:nvPr/>
          </p:nvGrpSpPr>
          <p:grpSpPr>
            <a:xfrm>
              <a:off x="45720" y="-4680"/>
              <a:ext cx="1125000" cy="7619040"/>
              <a:chOff x="45720" y="-4680"/>
              <a:chExt cx="1125000" cy="7619040"/>
            </a:xfrm>
          </p:grpSpPr>
          <p:sp>
            <p:nvSpPr>
              <p:cNvPr id="43" name=""/>
              <p:cNvSpPr/>
              <p:nvPr/>
            </p:nvSpPr>
            <p:spPr>
              <a:xfrm flipH="1">
                <a:off x="55080" y="-4680"/>
                <a:ext cx="1101240" cy="759672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H="1">
                <a:off x="55440" y="1881360"/>
                <a:ext cx="1101240" cy="55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>
                <a:off x="55440" y="1430640"/>
                <a:ext cx="1101240" cy="5580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>
                <a:off x="55440" y="166320"/>
                <a:ext cx="1101240" cy="3373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55440" y="1094760"/>
                <a:ext cx="1101240" cy="3884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H="1">
                <a:off x="55440" y="756360"/>
                <a:ext cx="1101240" cy="4784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>
                <a:off x="55440" y="414000"/>
                <a:ext cx="1114920" cy="4165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46440" y="4377600"/>
                <a:ext cx="1101240" cy="55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46440" y="3926520"/>
                <a:ext cx="1101240" cy="5580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>
                <a:off x="46800" y="2661840"/>
                <a:ext cx="1101240" cy="3373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>
                <a:off x="46440" y="3589560"/>
                <a:ext cx="1101240" cy="3884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>
                <a:off x="46440" y="3251880"/>
                <a:ext cx="1101240" cy="4773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46800" y="2909160"/>
                <a:ext cx="1114920" cy="4176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55080" y="5522760"/>
                <a:ext cx="1101240" cy="55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55080" y="5071680"/>
                <a:ext cx="1101240" cy="5580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46440" y="6302880"/>
                <a:ext cx="1101240" cy="3369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 rot="16200000">
                <a:off x="404280" y="6870600"/>
                <a:ext cx="384480" cy="11026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46440" y="6894000"/>
                <a:ext cx="1101240" cy="4773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46440" y="6550200"/>
                <a:ext cx="1114920" cy="4179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 flipH="1" rot="16200000">
              <a:off x="-3447000" y="3441600"/>
              <a:ext cx="7619400" cy="7268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rot="16200000">
              <a:off x="-2789640" y="3637440"/>
              <a:ext cx="7617600" cy="33336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02840" y="50796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302840" y="2201760"/>
            <a:ext cx="863604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2960" indent="-37296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8920" indent="-3110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87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42400" indent="-248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40280" indent="-2487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40280" indent="-2487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40280" indent="-2487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1302840" y="6962400"/>
            <a:ext cx="21164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97980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7790040" y="6941880"/>
            <a:ext cx="211608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6262646A-C41C-4A32-8BA1-7F93738612C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-3240" y="2709720"/>
            <a:ext cx="10162800" cy="1180440"/>
            <a:chOff x="-3240" y="2709720"/>
            <a:chExt cx="10162800" cy="1180440"/>
          </a:xfrm>
        </p:grpSpPr>
        <p:grpSp>
          <p:nvGrpSpPr>
            <p:cNvPr id="106" name=""/>
            <p:cNvGrpSpPr/>
            <p:nvPr/>
          </p:nvGrpSpPr>
          <p:grpSpPr>
            <a:xfrm>
              <a:off x="-2880" y="2755440"/>
              <a:ext cx="10162440" cy="1123920"/>
              <a:chOff x="-2880" y="2755440"/>
              <a:chExt cx="10162440" cy="1123920"/>
            </a:xfrm>
          </p:grpSpPr>
          <p:sp>
            <p:nvSpPr>
              <p:cNvPr id="107" name=""/>
              <p:cNvSpPr/>
              <p:nvPr/>
            </p:nvSpPr>
            <p:spPr>
              <a:xfrm flipH="1" rot="5400000">
                <a:off x="4543200" y="-1751040"/>
                <a:ext cx="1099800" cy="1013256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5400000">
                <a:off x="6723000" y="2943720"/>
                <a:ext cx="1099800" cy="7426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rot="5400000">
                <a:off x="7323480" y="2943000"/>
                <a:ext cx="1099800" cy="744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rot="5400000">
                <a:off x="9156960" y="3090240"/>
                <a:ext cx="1099800" cy="449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5400000">
                <a:off x="7884720" y="3056040"/>
                <a:ext cx="1099800" cy="518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5400000">
                <a:off x="8276040" y="2995920"/>
                <a:ext cx="1099800" cy="6382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5400000">
                <a:off x="8767080" y="3044520"/>
                <a:ext cx="1113840" cy="55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5400000">
                <a:off x="3393360" y="2935080"/>
                <a:ext cx="1099800" cy="742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5400000">
                <a:off x="3993840" y="2934360"/>
                <a:ext cx="1099800" cy="744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5829120" y="3081600"/>
                <a:ext cx="1099800" cy="449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4556520" y="3047400"/>
                <a:ext cx="1099800" cy="518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5400000">
                <a:off x="4947480" y="2988000"/>
                <a:ext cx="1099800" cy="636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 rot="5400000">
                <a:off x="5438160" y="3035160"/>
                <a:ext cx="1113840" cy="5569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 rot="5400000">
                <a:off x="1865880" y="2943720"/>
                <a:ext cx="1099800" cy="742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 rot="5400000">
                <a:off x="2466360" y="2943000"/>
                <a:ext cx="1099800" cy="744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rot="5400000">
                <a:off x="971640" y="3081600"/>
                <a:ext cx="1099800" cy="449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-3240" y="2755440"/>
                <a:ext cx="513000" cy="110124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rot="5400000">
                <a:off x="89640" y="2988000"/>
                <a:ext cx="1099800" cy="636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 rot="5400000">
                <a:off x="581040" y="3035160"/>
                <a:ext cx="1113840" cy="5572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flipH="1">
              <a:off x="-3240" y="2709720"/>
              <a:ext cx="10162800" cy="726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-3240" y="3557160"/>
              <a:ext cx="10161360" cy="33300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02840" y="1523880"/>
            <a:ext cx="8636040" cy="1236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7"/>
          </p:nvPr>
        </p:nvSpPr>
        <p:spPr>
          <a:xfrm>
            <a:off x="1297080" y="6941880"/>
            <a:ext cx="211608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8"/>
          </p:nvPr>
        </p:nvSpPr>
        <p:spPr>
          <a:xfrm>
            <a:off x="397980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9"/>
          </p:nvPr>
        </p:nvSpPr>
        <p:spPr>
          <a:xfrm>
            <a:off x="7790040" y="6941880"/>
            <a:ext cx="211608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727BDA65-566E-432E-AF3D-3BB21820810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tektek.org/dream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spaghettibookclub.org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shelfari.com/o1518041624/shelf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voicethread.com/share/706887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ikeepsafe.org/assets/videos/?vid=fauxpaw_video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06400" y="1404720"/>
            <a:ext cx="8547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3366"/>
                </a:solidFill>
                <a:latin typeface="Arial"/>
              </a:rPr>
              <a:t>Starting Your Own Online Book Club: Book Reviews 2.0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41000" y="4368960"/>
            <a:ext cx="702324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ryl Wolf, LMS, McKinley Library, PS 63 &amp;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ighborhood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sa Epstein, L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47840" y="558720"/>
            <a:ext cx="85471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3366"/>
                </a:solidFill>
                <a:latin typeface="Arial"/>
              </a:rPr>
              <a:t>Online Identities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47840" y="2251080"/>
            <a:ext cx="41450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vatars - Safe, anonymous, fun!!!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tektek.org/dream/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self portra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58000" y="1778040"/>
            <a:ext cx="3301920" cy="4572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740120" y="3132000"/>
            <a:ext cx="32306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47840" y="558360"/>
            <a:ext cx="8547120" cy="7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3366"/>
                </a:solidFill>
                <a:latin typeface="Arial"/>
              </a:rPr>
              <a:t>Book Reviews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14360" y="1574640"/>
            <a:ext cx="8547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ow example of student book reviews at 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spaghettibookclub.or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184560" y="3132000"/>
            <a:ext cx="487044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973240" y="1397160"/>
            <a:ext cx="5356440" cy="6000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008160" y="727200"/>
            <a:ext cx="530388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_________________Title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4440" y="50400"/>
            <a:ext cx="854712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So You Want to Write a Book Review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47840" y="558720"/>
            <a:ext cx="85471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3366"/>
                </a:solidFill>
                <a:latin typeface="Arial"/>
              </a:rPr>
              <a:t>Finally… 5-402 Book Club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98600" y="1574640"/>
            <a:ext cx="41450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helfari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2179800" y="2286000"/>
            <a:ext cx="6562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47840" y="558720"/>
            <a:ext cx="85471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3366"/>
                </a:solidFill>
                <a:latin typeface="Arial"/>
              </a:rPr>
              <a:t>Process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47840" y="2251080"/>
            <a:ext cx="41450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block Shelfari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reate gmail accounts for studen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line identiti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reate Shelfari account for each studen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910040" y="676440"/>
            <a:ext cx="4764240" cy="2763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994280" y="4064040"/>
            <a:ext cx="47214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ting up a Group on Shelfar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155920" y="2200320"/>
            <a:ext cx="42418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BRAIN:Users:alisa:Desktop:2009-11-01_1137.mp4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9478800" cy="57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3400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Group and Privacy Setting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063800" y="2200320"/>
            <a:ext cx="803088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ite Students to Join the Book Club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unique gmail addresses to assure saf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62120" y="2251080"/>
            <a:ext cx="86360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ng a Book to a Group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424152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BRAIN:Users:alisa:Desktop:shelfari1.mp4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94885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02840" y="50796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3366"/>
                </a:solidFill>
                <a:latin typeface="Times New Roman"/>
              </a:rPr>
              <a:t>And one last thought</a:t>
            </a:r>
            <a:endParaRPr b="0" lang="en-US" sz="4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02840" y="2201760"/>
            <a:ext cx="863604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ly’s Book Review @ </a:t>
            </a:r>
            <a:r>
              <a:rPr b="0" lang="en-US" sz="36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VoiceTh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47840" y="558720"/>
            <a:ext cx="85471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3366"/>
                </a:solidFill>
                <a:latin typeface="Arial"/>
              </a:rPr>
              <a:t>Objective</a:t>
            </a:r>
            <a:r>
              <a:rPr b="0" lang="en-US" sz="49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47840" y="2251080"/>
            <a:ext cx="854712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ynamic online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tivate kids to r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 to write book revie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350040" y="5334120"/>
            <a:ext cx="17143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You can do it too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llett Destiny Book Review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use for elementary school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onlin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with whole school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 library catalog search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critical thinking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638680" y="990720"/>
            <a:ext cx="41371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ook Review Cont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s 2 to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ual peer to peer recommendations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uninhibite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components of brief book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22860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you like this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22860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ould like to read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02840" y="50796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3366"/>
                </a:solidFill>
                <a:latin typeface="Times New Roman"/>
              </a:rPr>
              <a:t>Writing a Book Review on the Library Catalog: A Tutorial</a:t>
            </a:r>
            <a:endParaRPr b="0" lang="en-US" sz="4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02840" y="2201760"/>
            <a:ext cx="863604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llowing is a screencast video of the process of posting a book review to Desti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tiny Book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424152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BRAIN:Users:alisa:Desktop:2009-11-01_1947.mp4" descr=""/>
          <p:cNvPicPr/>
          <p:nvPr/>
        </p:nvPicPr>
        <p:blipFill>
          <a:blip r:embed="rId1"/>
          <a:stretch/>
        </p:blipFill>
        <p:spPr>
          <a:xfrm>
            <a:off x="262080" y="1682640"/>
            <a:ext cx="9644040" cy="59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6953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oodreads vs Shelfari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9215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 and 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reads not blocked by DOE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reads offered more privacy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oodreads site policy states users must me 13 or o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fari interface is more graphically interesting and less confusing for elementary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fari easy to write a review and star books from 1 to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47840" y="558720"/>
            <a:ext cx="85471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3366"/>
                </a:solidFill>
                <a:latin typeface="Arial"/>
              </a:rPr>
              <a:t>Goodread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333440" y="2200320"/>
            <a:ext cx="8583840" cy="4584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523520" y="434340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47840" y="558720"/>
            <a:ext cx="85471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3366"/>
                </a:solidFill>
                <a:latin typeface="Arial"/>
              </a:rPr>
              <a:t>Internet Safet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47840" y="2251080"/>
            <a:ext cx="854712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 Keep Safe Internet Safety Coalition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	Internet Safety Vid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ver give personal information to someone you meet onl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ople may not be who they say they are onl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ver arrange to meet anyone you have met online in pers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ernet use permission slip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stribute an internet use survey to assess students exposure to the web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Richard Morgan</cp:lastModifiedBy>
  <dcterms:modified xsi:type="dcterms:W3CDTF">2009-11-02T00:55:08Z</dcterms:modified>
  <cp:revision>18</cp:revision>
  <dc:subject/>
  <dc:title>PowerPoint Presentation</dc:title>
</cp:coreProperties>
</file>